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000-13C9-4016-84CC-852C9995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86E-4188-4C49-B73A-C66E5975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0BD-162A-417B-B76B-A2C57079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3E4-EE02-4849-AABA-D0C07BFB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496-0B32-4313-AF19-472F1BD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947-1148-475B-BE8D-6AAE35B0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E50-BF68-448C-82BA-E006B924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ACF-73A4-45B4-BF70-CDE23988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BBD-827D-4ADC-92C6-0A86C9A9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32A-23BB-4C26-9004-E5918C7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362-1DE3-49C0-B405-C66A05C7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BD3-1724-4052-853E-BFA3F1C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9FDE-A10B-4995-AA0B-0ADC81EE3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163440"/>
            <a:ext cx="8839440" cy="371520"/>
            <a:chOff x="152280" y="163440"/>
            <a:chExt cx="8839440" cy="371520"/>
          </a:xfrm>
        </p:grpSpPr>
        <p:sp>
          <p:nvSpPr>
            <p:cNvPr id="42" name=""/>
            <p:cNvSpPr/>
            <p:nvPr/>
          </p:nvSpPr>
          <p:spPr>
            <a:xfrm>
              <a:off x="152280" y="1666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H.R. Winter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410080" y="163440"/>
              <a:ext cx="35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GFDL/HWRF PERFORM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4880" cy="5481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3352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C Erika (2009) 126-hour Forecast Maximum Wind Speed Sw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Initialized 12Z September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4560" y="544680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GF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64120" y="544680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647712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Wind Speed (k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280" y="163440"/>
            <a:ext cx="8839440" cy="371520"/>
            <a:chOff x="152280" y="163440"/>
            <a:chExt cx="8839440" cy="371520"/>
          </a:xfrm>
        </p:grpSpPr>
        <p:sp>
          <p:nvSpPr>
            <p:cNvPr id="50" name=""/>
            <p:cNvSpPr/>
            <p:nvPr/>
          </p:nvSpPr>
          <p:spPr>
            <a:xfrm>
              <a:off x="152280" y="1666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H.R. Winter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0080" y="163440"/>
              <a:ext cx="35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GFDL/HWRF PERFORM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0" y="1828800"/>
            <a:ext cx="914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Some of the suggested reasons (via internal NOAA discussions and the TC listserv) for the operational guidance models (GFDL/HWRF) poor forecasts for TC Erika (2009)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Initial conditions – a vertically stacked vortex (via GFDL/HWRF) versus a sheared vortex (GFS/WRF-ARW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Physical parameterizations – a convective feedback issues or an aggressive convection scheme (ie. Betts-Miller) leading to the development of an anti-cyclone aloft and subsequent </a:t>
            </a:r>
            <a:r>
              <a:rPr b="0" i="1" lang="en-US" sz="1800" spc="-1" strike="noStrike">
                <a:solidFill>
                  <a:srgbClr val="ff0000"/>
                </a:solidFill>
                <a:latin typeface="Microsoft Sans Serif"/>
              </a:rPr>
              <a:t>over</a:t>
            </a: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 deepening of the vorte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Ignorance of the SAL and GFDL/HWRF physics which do not account for aerosol loading within the radiation and microphysics sche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Is there a data assimilation iss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A combination of the abo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Something else more omino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8580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he last advisory from TPC/NHC for TC Erika (2009) was 0300Z 04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he 12Z forecast for TC Erika (2009) from the operational GFDL and HWRF models predict a strong TS to CAT-1 off the east coast of the United States 5-day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Microsoft Sans Serif"/>
              </a:rPr>
              <a:t>Much to the TPC/NHC forecasters’ credit, they were able to use their intuition and skills to sort through the data and produce an accurate foreca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63440"/>
            <a:ext cx="8839440" cy="371520"/>
            <a:chOff x="152280" y="163440"/>
            <a:chExt cx="8839440" cy="371520"/>
          </a:xfrm>
        </p:grpSpPr>
        <p:sp>
          <p:nvSpPr>
            <p:cNvPr id="56" name=""/>
            <p:cNvSpPr/>
            <p:nvPr/>
          </p:nvSpPr>
          <p:spPr>
            <a:xfrm>
              <a:off x="152280" y="1666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H.R. Winter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10080" y="163440"/>
              <a:ext cx="35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GFDL/HWRF PERFORM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22400" y="1068480"/>
            <a:ext cx="7211880" cy="548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3352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C Erika (2009) Initial Vortex Vertical Wind Pro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Initialized 12Z September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GF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295280"/>
            <a:ext cx="144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647712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Wind Speed (k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1:07:16Z</dcterms:created>
  <dc:creator>Henry R. Winterbottom</dc:creator>
  <dc:description/>
  <dc:language>en-US</dc:language>
  <cp:lastModifiedBy>gopal</cp:lastModifiedBy>
  <dcterms:modified xsi:type="dcterms:W3CDTF">2009-09-16T22:22:04Z</dcterms:modified>
  <cp:revision>30</cp:revision>
  <dc:subject/>
  <dc:title>Slide 1</dc:title>
</cp:coreProperties>
</file>